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22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51F5-F764-4013-B2DE-2C795F3113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0D42-5F81-4852-980C-F3232412F75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B55B-1DDC-44AC-B93B-4932BA8CFF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8738-FC61-4EAE-9CF7-14600B725F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92B0-B30F-4390-9367-9C3525B588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0029-E131-4974-9C58-27DF98DA04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3673440"/>
            <a:ext cx="5435640" cy="55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08B0-A725-4FD4-8BAC-80F562C8DA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3012-BC3F-488F-9CAB-88932C7E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0402-E91B-4C3F-A47E-90FA432F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4EF3-841F-43B6-9C04-C00959C7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81E-5123-4DF4-B484-07AA81EB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4E0-4697-468D-865B-7284808E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508-1842-4C91-8454-FA9329D6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149E-2AF2-4CFB-89DD-B29BFADE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6F7-07E1-432C-ACB2-9FBB6E65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AE4-A30C-40EA-937B-50F30A29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DAC5-CD61-4226-BF17-5F343F1B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BAC-5B06-4D5F-9147-00BD9C1B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27B-3F7A-49B8-BEC1-C93FAB14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8B6B-1265-4F02-B2CB-A9CB918690E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7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85" name="Přímá spojnice se šipkou 4"/>
          <p:cNvCxnSpPr>
            <a:stCxn id="86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92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125360"/>
            <a:ext cx="446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 v posledním monitorovacím (sledovaném)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8"/>
          <p:cNvSpPr/>
          <p:nvPr/>
        </p:nvSpPr>
        <p:spPr>
          <a:xfrm>
            <a:off x="3419640" y="4797360"/>
            <a:ext cx="7207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Přímá spojnice se šipkou 11"/>
          <p:cNvCxnSpPr/>
          <p:nvPr/>
        </p:nvCxnSpPr>
        <p:spPr>
          <a:xfrm flipH="1" flipV="1">
            <a:off x="3419280" y="3789360"/>
            <a:ext cx="1584720" cy="1440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0" y="692280"/>
            <a:ext cx="4182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, pokud bude u VŘ pouze jeden dodavatel. Pokud bude více dodavatelů, příjemce bude vyplňovat pole na záložce Detaily k VŘ ručně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824360" cy="496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08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13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Přímá spojnice se šipkou 5"/>
          <p:cNvCxnSpPr>
            <a:stCxn id="114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Nová záložka od 2. 7.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&gt;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dvojitých šip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8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43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77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66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3"/>
          <a:stretch/>
        </p:blipFill>
        <p:spPr>
          <a:xfrm>
            <a:off x="6443640" y="2354400"/>
            <a:ext cx="762120" cy="333360"/>
          </a:xfrm>
          <a:prstGeom prst="rect">
            <a:avLst/>
          </a:prstGeom>
          <a:ln w="0">
            <a:noFill/>
          </a:ln>
        </p:spPr>
      </p:pic>
      <p:cxnSp>
        <p:nvCxnSpPr>
          <p:cNvPr id="169" name="Přímá spojnice se šipkou 3"/>
          <p:cNvCxnSpPr>
            <a:stCxn id="168" idx="1"/>
          </p:cNvCxnSpPr>
          <p:nvPr/>
        </p:nvCxnSpPr>
        <p:spPr>
          <a:xfrm flipH="1">
            <a:off x="2245680" y="2521080"/>
            <a:ext cx="4197960" cy="28533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Přímá spojnice se šipkou 3"/>
          <p:cNvCxnSpPr>
            <a:stCxn id="174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187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9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194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96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Přímá spojnice se šipkou 7"/>
          <p:cNvCxnSpPr>
            <a:endCxn id="196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03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12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4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7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lizac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33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34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Přímá spojnice se šipkou 5"/>
          <p:cNvCxnSpPr>
            <a:stCxn id="238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0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41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48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54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6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60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271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16000" y="1197000"/>
          <a:ext cx="676260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604880"/>
                <a:gridCol w="173664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9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Obdélník 1"/>
          <p:cNvSpPr/>
          <p:nvPr/>
        </p:nvSpPr>
        <p:spPr>
          <a:xfrm>
            <a:off x="250920" y="1916280"/>
            <a:ext cx="115236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Bukovská Jiřina (MPSV)</cp:lastModifiedBy>
  <cp:lastPrinted>2012-04-23T10:38:10Z</cp:lastPrinted>
  <dcterms:modified xsi:type="dcterms:W3CDTF">2012-12-11T06:49:25Z</dcterms:modified>
  <cp:revision>441</cp:revision>
  <dc:subject/>
  <dc:title>Snímek 1</dc:title>
</cp:coreProperties>
</file>